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PlaceHolder 1"/>
          <p:cNvSpPr>
            <a:spLocks noGrp="1"/>
          </p:cNvSpPr>
          <p:nvPr>
            <p:ph type="sldImg"/>
          </p:nvPr>
        </p:nvSpPr>
        <p:spPr>
          <a:xfrm>
            <a:off x="1106640" y="812880"/>
            <a:ext cx="5341680" cy="4005360"/>
          </a:xfrm>
          <a:prstGeom prst="rect">
            <a:avLst/>
          </a:prstGeom>
          <a:noFill/>
          <a:ln w="0">
            <a:noFill/>
          </a:ln>
        </p:spPr>
        <p:txBody>
          <a:bodyPr lIns="0" rIns="0" tIns="0" bIns="0" anchor="ctr">
            <a:noAutofit/>
          </a:bodyPr>
          <a:p>
            <a:pPr algn="ctr">
              <a:lnSpc>
                <a:spcPct val="8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400" spc="-1" strike="noStrike">
                <a:solidFill>
                  <a:srgbClr val="ffffff"/>
                </a:solidFill>
                <a:latin typeface="Times New Roman"/>
              </a:rPr>
              <a:t>Click to move the slide</a:t>
            </a:r>
            <a:endParaRPr b="1" i="1" lang="en-US" sz="4400" spc="-1" strike="noStrike">
              <a:solidFill>
                <a:srgbClr val="ffffff"/>
              </a:solidFill>
              <a:latin typeface="Times New Roman"/>
            </a:endParaRPr>
          </a:p>
        </p:txBody>
      </p:sp>
      <p:sp>
        <p:nvSpPr>
          <p:cNvPr id="44"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hdr"/>
          </p:nvPr>
        </p:nvSpPr>
        <p:spPr>
          <a:xfrm>
            <a:off x="0" y="-360"/>
            <a:ext cx="3278160" cy="531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 name="PlaceHolder 4"/>
          <p:cNvSpPr>
            <a:spLocks noGrp="1"/>
          </p:cNvSpPr>
          <p:nvPr>
            <p:ph type="dt" idx="4"/>
          </p:nvPr>
        </p:nvSpPr>
        <p:spPr>
          <a:xfrm>
            <a:off x="4278240" y="-360"/>
            <a:ext cx="3278160" cy="531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5"/>
          <p:cNvSpPr>
            <a:spLocks noGrp="1"/>
          </p:cNvSpPr>
          <p:nvPr>
            <p:ph type="ftr" idx="5"/>
          </p:nvPr>
        </p:nvSpPr>
        <p:spPr>
          <a:xfrm>
            <a:off x="0" y="10156680"/>
            <a:ext cx="3278160" cy="53208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6"/>
          <p:cNvSpPr>
            <a:spLocks noGrp="1"/>
          </p:cNvSpPr>
          <p:nvPr>
            <p:ph type="sldNum" idx="6"/>
          </p:nvPr>
        </p:nvSpPr>
        <p:spPr>
          <a:xfrm>
            <a:off x="4278240" y="10156680"/>
            <a:ext cx="3278160" cy="532080"/>
          </a:xfrm>
          <a:prstGeom prst="rect">
            <a:avLst/>
          </a:prstGeom>
          <a:noFill/>
          <a:ln w="0">
            <a:noFill/>
          </a:ln>
        </p:spPr>
        <p:txBody>
          <a:bodyPr lIns="0" rIns="0" tIns="0" bIns="0" anchor="b">
            <a:noAutofit/>
          </a:bodyPr>
          <a:lstStyle>
            <a:lvl1pPr indent="0" algn="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defRPr b="0" lang="ja-JP" sz="1400" spc="-1" strike="noStrike">
                <a:solidFill>
                  <a:srgbClr val="ffffff"/>
                </a:solidFill>
                <a:latin typeface="Times New Roman"/>
                <a:ea typeface="MS PGothic"/>
              </a:defRPr>
            </a:lvl1pPr>
          </a:lstStyle>
          <a:p>
            <a:pPr indent="0" algn="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E8AC8D58-80E2-410B-8156-F2F587A15152}" type="slidenum">
              <a:rPr b="0" lang="ja-JP" sz="1400" spc="-1" strike="noStrike">
                <a:solidFill>
                  <a:srgbClr val="ffffff"/>
                </a:solidFill>
                <a:latin typeface="Times New Roman"/>
                <a:ea typeface="MS PGothic"/>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The James Webb Space Telescope</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82"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e James Webb Space Telescope</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The James Webb Space Telescop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www.sliderbase.c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How far will Webb look?</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One of the main goals of Webb is to detect some of the very first star formation in the Universe. This is thought to happen somewhere between redshift 15 and 30.  At those redshifts, the Universe was only one or two percent of its current age. The Universe is now 13.7 billion years old, and these redshifts correspond to 100 to 250 million years after the Big Bang. The light from the first galaxies has traveled for about 13.5 billion years, over a distance of 13.5 billion light-years.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109"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How far will Webb look?</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One of the main goals of Webb is to detect some of the very first star formation in the Universe. This is thought to happen somewhere between redshift 15 and 30.  At those redshifts, the Universe was only one or two percent of its current age. The Universe is now 13.7 billion years old, and these redshifts correspond to 100 to 250 million years after the Big Bang. The light from the first galaxies has traveled for about 13.5 billion years, over a distance of 13.5 billion light-years.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0" name="PlaceHolder 1"/>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1600" spc="-1" strike="noStrike">
                <a:solidFill>
                  <a:srgbClr val="000000"/>
                </a:solidFill>
                <a:latin typeface="Arial"/>
                <a:ea typeface="MS PGothic"/>
              </a:rPr>
              <a:t>How far will Webb look?</a:t>
            </a:r>
            <a:endParaRPr b="0" lang="en-US" sz="16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1600" spc="-1" strike="noStrike">
                <a:solidFill>
                  <a:srgbClr val="000000"/>
                </a:solidFill>
                <a:latin typeface="Arial"/>
                <a:ea typeface="MS PGothic"/>
              </a:rPr>
              <a:t>One of the main goals of Webb is to detect some of the very first star formation in the Universe. This is thought to happen somewhere between redshift 15 and 30.  At those redshifts, the Universe was only one or two percent of its current age. The Universe is now 13.7 billion years old, and these redshifts correspond to 100 to 250 million years after the Big Bang. The light from the first galaxies has traveled for about 13.5 billion years, over a distance of 13.5 billion light-years. </a:t>
            </a:r>
            <a:endParaRPr b="0" lang="en-US" sz="16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16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1600" spc="-1" strike="noStrike">
                <a:solidFill>
                  <a:srgbClr val="000000"/>
                </a:solidFill>
                <a:latin typeface="Arial"/>
                <a:ea typeface="MS PGothic"/>
              </a:rPr>
              <a:t>www.sliderbase.com</a:t>
            </a:r>
            <a:endParaRPr b="0" lang="en-US" sz="1600" spc="-1" strike="noStrike">
              <a:solidFill>
                <a:srgbClr val="000000"/>
              </a:solidFill>
              <a:latin typeface="Times New Roman"/>
            </a:endParaRPr>
          </a:p>
          <a:p>
            <a:pPr marL="430200" indent="0">
              <a:lnSpc>
                <a:spcPct val="107000"/>
              </a:lnSpc>
              <a:buNone/>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Introduction</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The James Webb Space Telescope</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The James Webb Space Telescope, also called Webb or JWST, is a large, space-based observatory, optimized for infrared wavelengths, which will complement and extend the discoveries of the Hubble Space Telescope. It will have longer wavelength coverage and greatly improved sensitivity. The longer wavelengths enable Webb to look further back in time to find the first galaxies that formed in the early Universe, and to peer inside dust clouds where stars and planetary systems are forming today. It is scheduled for launch in 2013.</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85"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Introduction</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e James Webb Space Telescope</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e James Webb Space Telescope, also called Webb or JWST, is a large, space-based observatory, optimized for infrared wavelengths, which will complement and extend the discoveries of the Hubble Space Telescope. It will have longer wavelength coverage and greatly improved sensitivity. The longer wavelengths enable Webb to look further back in time to find the first galaxies that formed in the early Universe, and to peer inside dust clouds where stars and planetary systems are forming today. It is scheduled for launch in 2013.</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6" name="PlaceHolder 1"/>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Introduc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The James Webb Space Telescop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The James Webb Space Telescope, also called Webb or JWST, is a large, space-based observatory, optimized for infrared wavelengths, which will complement and extend the discoveries of the Hubble Space Telescope. It will have longer wavelength coverage and greatly improved sensitivity. The longer wavelengths enable Webb to look further back in time to find the first galaxies that formed in the early Universe, and to peer inside dust clouds where stars and planetary systems are forming today. It is scheduled for launch in 2013.</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www.sliderbase.c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James E .Webb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This space-based observatory is named after James E. Webb (1906- 1992), NASA's second administrator. Webb is best known for leading Apollo, a series of lunar exploration programs that landed the first humans on the Moon. However, he also initiated a vigorous space science program that was responsible for more than 75 launches during his tenure, including America's first interplanetary explorers.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88"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James E .Webb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is space-based observatory is named after James E. Webb (1906- 1992), NASA's second administrator. Webb is best known for leading Apollo, a series of lunar exploration programs that landed the first humans on the Moon. However, he also initiated a vigorous space science program that was responsible for more than 75 launches during his tenure, including America's first interplanetary explorers.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James E .Webb </a:t>
            </a:r>
            <a:endParaRPr b="0" lang="en-US" sz="22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This space-based observatory is named after James E. Webb (1906- 1992), NASA's second administrator. Webb is best known for leading Apollo, a series of lunar exploration programs that landed the first humans on the Moon. However, he also initiated a vigorous space science program that was responsible for more than 75 launches during his tenure, including America's first interplanetary explorers. </a:t>
            </a:r>
            <a:endParaRPr b="0" lang="en-US" sz="22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22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www.sliderbase.com</a:t>
            </a:r>
            <a:endParaRPr b="0" lang="en-US" sz="22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2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How will Webb be better?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ebb is designed to look deeper into space to see the earliest stars and galaxies that formed in the Universe and to look deep into nearby dust clouds to study the formation of stars and planets. In order to do this, Webb will have a much larger primary mirror than Hubble (2.5 times larger in diameter, or about 6 times larger in area), giving it more light-gathering power. It also will have infrared instruments with longer wavelength coverage and greatly improved sensitivity than Hubble. Finally, Webb will operate much farther from Earth, maintaining its extremely cold operating temperature, stable pointing and higher observing efficiency than with the Earth-orbiting Hubble.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91"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How will Webb be better?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ebb is designed to look deeper into space to see the earliest stars and galaxies that formed in the Universe and to look deep into nearby dust clouds to study the formation of stars and planets. In order to do this, Webb will have a much larger primary mirror than Hubble (2.5 times larger in diameter, or about 6 times larger in area), giving it more light-gathering power. It also will have infrared instruments with longer wavelength coverage and greatly improved sensitivity than Hubble. Finally, Webb will operate much farther from Earth, maintaining its extremely cold operating temperature, stable pointing and higher observing efficiency than with the Earth-orbiting Hubble.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2" name="PlaceHolder 1"/>
          <p:cNvSpPr>
            <a:spLocks noGrp="1"/>
          </p:cNvSpPr>
          <p:nvPr>
            <p:ph type="body"/>
          </p:nvPr>
        </p:nvSpPr>
        <p:spPr>
          <a:xfrm>
            <a:off x="755280" y="5078160"/>
            <a:ext cx="6048360" cy="4970520"/>
          </a:xfrm>
          <a:prstGeom prst="rect">
            <a:avLst/>
          </a:prstGeom>
          <a:noFill/>
          <a:ln w="0">
            <a:noFill/>
          </a:ln>
        </p:spPr>
        <p:txBody>
          <a:bodyPr lIns="0" rIns="0" tIns="0" bIns="0" anchor="t">
            <a:noAutofit/>
          </a:bodyPr>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How will Webb be better? </a:t>
            </a:r>
            <a:endParaRPr b="0" lang="en-US" sz="22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Webb is designed to look deeper into space to see the earliest stars and galaxies that formed in the Universe and to look deep into nearby dust clouds to study the formation of stars and planets. In order to do this, Webb will have a much larger primary mirror than Hubble (2.5 times larger in diameter, or about 6 times larger in area), giving it more light-gathering power. It also will have infrared instruments with longer wavelength coverage and greatly improved sensitivity than Hubble. Finally, Webb will operate much farther from Earth, maintaining its extremely cold operating temperature, stable pointing and higher observing efficiency than with the Earth-orbiting Hubble. </a:t>
            </a:r>
            <a:endParaRPr b="0" lang="en-US" sz="22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22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www.sliderbase.com</a:t>
            </a:r>
            <a:endParaRPr b="0" lang="en-US" sz="22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2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1400"/>
            </a:br>
            <a:r>
              <a:rPr b="0" lang="en-US" sz="1400" spc="-1" strike="noStrike">
                <a:solidFill>
                  <a:srgbClr val="ffffff"/>
                </a:solidFill>
                <a:latin typeface="Times New Roman"/>
                <a:ea typeface="MS PGothic"/>
              </a:rPr>
              <a:t>How long will the mission last?</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ebb will have a mission lifetime of not less than 5-1/2 years after launch, with the goal of having a lifetime greater than 10 years. The lifetime is limited by the amount of fuel used for maintaining the orbit, and by the testing and redundancy that ensures that everything on the spacecraft will work. Webb will carry fuel for a 10-year lifetime; the project will do mission assurance testing to guarantee 5 years of scientific operations starting at the end of the commissioning period 6 months after launch.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94"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0" lang="en-US" sz="1800" spc="-1" strike="noStrike">
                <a:solidFill>
                  <a:srgbClr val="ffffff"/>
                </a:solidFill>
                <a:latin typeface="Arial"/>
              </a:rPr>
              <a:t>How long will the mission las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ebb will have a mission lifetime of not less than 5-1/2 years after launch, with the goal of having a lifetime greater than 10 years. The lifetime is limited by the amount of fuel used for maintaining the orbit, and by the testing and redundancy that ensures that everything on the spacecraft will work. Webb will carry fuel for a 10-year lifetime; the project will do mission assurance testing to guarantee 5 years of scientific operations starting at the end of the commissioning period 6 months after launch.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5" name="PlaceHolder 1"/>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br>
              <a:rPr sz="2200"/>
            </a:br>
            <a:r>
              <a:rPr b="0" lang="en-US" sz="2200" spc="-1" strike="noStrike">
                <a:solidFill>
                  <a:srgbClr val="000000"/>
                </a:solidFill>
                <a:latin typeface="Arial"/>
                <a:ea typeface="MS PGothic"/>
              </a:rPr>
              <a:t>How long will the mission last?</a:t>
            </a:r>
            <a:endParaRPr b="0" lang="en-US" sz="22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Webb will have a mission lifetime of not less than 5-1/2 years after launch, with the goal of having a lifetime greater than 10 years. The lifetime is limited by the amount of fuel used for maintaining the orbit, and by the testing and redundancy that ensures that everything on the spacecraft will work. Webb will carry fuel for a 10-year lifetime; the project will do mission assurance testing to guarantee 5 years of scientific operations starting at the end of the commissioning period 6 months after launch. </a:t>
            </a:r>
            <a:endParaRPr b="0" lang="en-US" sz="22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22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www.sliderbase.com</a:t>
            </a:r>
            <a:endParaRPr b="0" lang="en-US" sz="22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2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Servicing Webb</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Hubble is in low-Earth orbit, located approximately 600 kilometers away from the Earth, and is therefore readily accessible for servicing using the Space Shuttle. Webb will be operated at the second Sun-Earth Lagrange point, located approximately 1.5 million kilometers away from the Earth, and will therefore be beyond the reach of any manned vehicle currently being planned for the next decade. In the early days of the Webb project, studies were conducted to evaluate the benefits, practicality and cost of servicing Webb either by human space flight, by robotic missions, or by some combination such as retrieval to low-Earth orbit. Those studies concluded that the potential benefits of servicing do not offset the increases in mission complexity, mass and cost that would be required to make Webb serviceable, or to conduct the servicing mission itself.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97"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ervicing Webb</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Hubble is in low-Earth orbit, located approximately 600 kilometers away from the Earth, and is therefore readily accessible for servicing using the Space Shuttle. Webb will be operated at the second Sun-Earth Lagrange point, located approximately 1.5 million kilometers away from the Earth, and will therefore be beyond the reach of any manned vehicle currently being planned for the next decade. In the early days of the Webb project, studies were conducted to evaluate the benefits, practicality and cost of servicing Webb either by human space flight, by robotic missions, or by some combination such as retrieval to low-Earth orbit. Those studies concluded that the potential benefits of servicing do not offset the increases in mission complexity, mass and cost that would be required to make Webb serviceable, or to conduct the servicing mission itself.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PlaceHolder 1"/>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Servicing Webb</a:t>
            </a:r>
            <a:endParaRPr b="0" lang="en-US" sz="22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Hubble is in low-Earth orbit, located approximately 600 kilometers away from the Earth, and is therefore readily accessible for servicing using the Space Shuttle. Webb will be operated at the second Sun-Earth Lagrange point, located approximately 1.5 million kilometers away from the Earth, and will therefore be beyond the reach of any manned vehicle currently being planned for the next decade. In the early days of the Webb project, studies were conducted to evaluate the benefits, practicality and cost of servicing Webb either by human space flight, by robotic missions, or by some combination such as retrieval to low-Earth orbit. Those studies concluded that the potential benefits of servicing do not offset the increases in mission complexity, mass and cost that would be required to make Webb serviceable, or to conduct the servicing mission itself.  </a:t>
            </a:r>
            <a:endParaRPr b="0" lang="en-US" sz="22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22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www.sliderbase.com</a:t>
            </a:r>
            <a:endParaRPr b="0" lang="en-US" sz="22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2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Size of the Webb</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The diameter of the primary mirror, will be about 6.5 meters (21 feet) for Webb. This is about 2.7 times larger than the diameter of Hubble, or about 6 times larger in area. The Webb will have a mass of approximately 6,500 kg, with a weight of 14,300 lbs on Earth (in orbit, everything is weightless), a little more than half the mass of Hubble. The largest structure of Webb will be its sunshade, which must be able to shield the deployed primary mirror and the tower that holds the secondary mirror. The sunshade is approximately the size of a tennis court.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100"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ize of the Webb</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e diameter of the primary mirror, will be about 6.5 meters (21 feet) for Webb. This is about 2.7 times larger than the diameter of Hubble, or about 6 times larger in area. The Webb will have a mass of approximately 6,500 kg, with a weight of 14,300 lbs on Earth (in orbit, everything is weightless), a little more than half the mass of Hubble. The largest structure of Webb will be its sunshade, which must be able to shield the deployed primary mirror and the tower that holds the secondary mirror. The sunshade is approximately the size of a tennis court.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1" name="PlaceHolder 1"/>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Size of the Webb</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The diameter of the primary mirror, will be about 6.5 meters (21 feet) for Webb. This is about 2.7 times larger than the diameter of Hubble, or about 6 times larger in area. The Webb will have a mass of approximately 6,500 kg, with a weight of 14,300 lbs on Earth (in orbit, everything is weightless), a little more than half the mass of Hubble. The largest structure of Webb will be its sunshade, which must be able to shield the deployed primary mirror and the tower that holds the secondary mirror. The sunshade is approximately the size of a tennis court.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www.sliderbase.c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Communication</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The Webb will send science and engineering data to Earth using a high frequency radio transmitter. Large radio antennas that are part of the NASA Deep Space Network will receive the signals and forward them to the Webb Science and Operation Center at the Space Telescope Science Institute in Baltimore, Maryland, USA.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103"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Communication</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e Webb will send science and engineering data to Earth using a high frequency radio transmitter. Large radio antennas that are part of the NASA Deep Space Network will receive the signals and forward them to the Webb Science and Operation Center at the Space Telescope Science Institute in Baltimore, Maryland, USA.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PlaceHolder 1"/>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Communic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The Webb will send science and engineering data to Earth using a high frequency radio transmitter. Large radio antennas that are part of the NASA Deep Space Network will receive the signals and forward them to the Webb Science and Operation Center at the Space Telescope Science Institute in Baltimore, Maryland, USA.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www.sliderbase.c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Orbit</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ebb is going to the second Lagrange (L2) point, which is 1 million miles (1.5 million km) away from Earth, and it just takes a while to travel such a distance. During the trip to L2, Webb will be fully deployed, will cool down to its operating temperature, and its systems will begin to be checked out and adjusted. These commissioning procedures will continue until 6 months after launch, at which point routine scientific operations will begin.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ebb will observe primarily the infrared light from faint and very distant objects. To avoid swamping the very faint astronomical signals with radiation from the telescope, the telescope and its instruments must be very cold.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ebb's operating temperature is less than 50 degrees above absolute zero: 50 Kelvin, (-225 Celcius, or -370 deg F). Therefore, Webb has a large shield that blocks the light from the Sun, Earth, and Moon, which otherwise would heat up the telescope, and interfere with the observations. To have this work, Webb will be in an orbit where all three of these objects are in about the same direction; the second Lagrange point (L2) of the Sun-Earth system has this property.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106"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Orbi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ebb is going to the second Lagrange (L2) point, which is 1 million miles (1.5 million km) away from Earth, and it just takes a while to travel such a distance. During the trip to L2, Webb will be fully deployed, will cool down to its operating temperature, and its systems will begin to be checked out and adjusted. These commissioning procedures will continue until 6 months after launch, at which point routine scientific operations will begin.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ebb will observe primarily the infrared light from faint and very distant objects. To avoid swamping the very faint astronomical signals with radiation from the telescope, the telescope and its instruments must be very cold.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ebb's operating temperature is less than 50 degrees above absolute zero: 50 Kelvin, (-225 Celcius, or -370 deg F). Therefore, Webb has a large shield that blocks the light from the Sun, Earth, and Moon, which otherwise would heat up the telescope, and interfere with the observations. To have this work, Webb will be in an orbit where all three of these objects are in about the same direction; the second Lagrange point (L2) of the Sun-Earth system has this property.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7" name="PlaceHolder 1"/>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1600" spc="-1" strike="noStrike">
                <a:solidFill>
                  <a:srgbClr val="000000"/>
                </a:solidFill>
                <a:latin typeface="Arial"/>
                <a:ea typeface="MS PGothic"/>
              </a:rPr>
              <a:t>Orbit</a:t>
            </a:r>
            <a:endParaRPr b="0" lang="en-US" sz="16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1600" spc="-1" strike="noStrike">
                <a:solidFill>
                  <a:srgbClr val="000000"/>
                </a:solidFill>
                <a:latin typeface="Arial"/>
                <a:ea typeface="MS PGothic"/>
              </a:rPr>
              <a:t>Webb is going to the second Lagrange (L2) point, which is 1 million miles (1.5 million km) away from Earth, and it just takes a while to travel such a distance. During the trip to L2, Webb will be fully deployed, will cool down to its operating temperature, and its systems will begin to be checked out and adjusted. These commissioning procedures will continue until 6 months after launch, at which point routine scientific operations will begin. </a:t>
            </a:r>
            <a:endParaRPr b="0" lang="en-US" sz="16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1600" spc="-1" strike="noStrike">
                <a:solidFill>
                  <a:srgbClr val="000000"/>
                </a:solidFill>
                <a:latin typeface="Arial"/>
                <a:ea typeface="MS PGothic"/>
              </a:rPr>
              <a:t>Webb will observe primarily the infrared light from faint and very distant objects. To avoid swamping the very faint astronomical signals with radiation from the telescope, the telescope and its instruments must be very cold. </a:t>
            </a:r>
            <a:endParaRPr b="0" lang="en-US" sz="16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1600" spc="-1" strike="noStrike">
                <a:solidFill>
                  <a:srgbClr val="000000"/>
                </a:solidFill>
                <a:latin typeface="Arial"/>
                <a:ea typeface="MS PGothic"/>
              </a:rPr>
              <a:t>Webb's operating temperature is less than 50 degrees above absolute zero: 50 Kelvin, (-225 Celcius, or -370 deg F). Therefore, Webb has a large shield that blocks the light from the Sun, Earth, and Moon, which otherwise would heat up the telescope, and interfere with the observations. To have this work, Webb will be in an orbit where all three of these objects are in about the same direction; the second Lagrange point (L2) of the Sun-Earth system has this property. </a:t>
            </a:r>
            <a:endParaRPr b="0" lang="en-US" sz="16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16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1600" spc="-1" strike="noStrike">
                <a:solidFill>
                  <a:srgbClr val="000000"/>
                </a:solidFill>
                <a:latin typeface="Arial"/>
                <a:ea typeface="MS PGothic"/>
              </a:rPr>
              <a:t>www.sliderbase.com</a:t>
            </a:r>
            <a:endParaRPr b="0" lang="en-US" sz="1600" spc="-1" strike="noStrike">
              <a:solidFill>
                <a:srgbClr val="000000"/>
              </a:solidFill>
              <a:latin typeface="Times New Roman"/>
            </a:endParaRPr>
          </a:p>
          <a:p>
            <a:pPr marL="430200" indent="0">
              <a:lnSpc>
                <a:spcPct val="107000"/>
              </a:lnSpc>
              <a:buNone/>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4CAE59-8018-4FAA-90F6-3785F476AC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27" name="PlaceHolder 2"/>
          <p:cNvSpPr>
            <a:spLocks noGrp="1"/>
          </p:cNvSpPr>
          <p:nvPr>
            <p:ph/>
          </p:nvPr>
        </p:nvSpPr>
        <p:spPr>
          <a:xfrm>
            <a:off x="503280" y="2057040"/>
            <a:ext cx="906768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503280" y="4661640"/>
            <a:ext cx="906768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5EBEA-B4EC-4DB9-8848-8843A3D60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30" name="PlaceHolder 2"/>
          <p:cNvSpPr>
            <a:spLocks noGrp="1"/>
          </p:cNvSpPr>
          <p:nvPr>
            <p:ph/>
          </p:nvPr>
        </p:nvSpPr>
        <p:spPr>
          <a:xfrm>
            <a:off x="503280" y="20570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5149800" y="20570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503280" y="46616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5149800" y="46616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42683A-7355-4869-9777-9F77CEC267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35" name="PlaceHolder 2"/>
          <p:cNvSpPr>
            <a:spLocks noGrp="1"/>
          </p:cNvSpPr>
          <p:nvPr>
            <p:ph/>
          </p:nvPr>
        </p:nvSpPr>
        <p:spPr>
          <a:xfrm>
            <a:off x="503280" y="2057040"/>
            <a:ext cx="291960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569400" y="2057040"/>
            <a:ext cx="291960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635160" y="2057040"/>
            <a:ext cx="291960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503280" y="4661640"/>
            <a:ext cx="291960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569400" y="4661640"/>
            <a:ext cx="291960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635160" y="4661640"/>
            <a:ext cx="291960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3F6753-3A09-4B95-984D-DC96D01CCA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6" name="PlaceHolder 2"/>
          <p:cNvSpPr>
            <a:spLocks noGrp="1"/>
          </p:cNvSpPr>
          <p:nvPr>
            <p:ph type="subTitle"/>
          </p:nvPr>
        </p:nvSpPr>
        <p:spPr>
          <a:xfrm>
            <a:off x="503280" y="2057040"/>
            <a:ext cx="9067680" cy="4986360"/>
          </a:xfrm>
          <a:prstGeom prst="rect">
            <a:avLst/>
          </a:prstGeom>
          <a:noFill/>
          <a:ln w="0">
            <a:noFill/>
          </a:ln>
        </p:spPr>
        <p:txBody>
          <a:bodyPr lIns="0" rIns="0" tIns="0" bIns="0" anchor="ctr">
            <a:noAutofit/>
          </a:bodyPr>
          <a:p>
            <a:pPr indent="0" algn="ctr">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53B62-A8B2-4AD5-A6E7-F5F157D93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8" name="PlaceHolder 2"/>
          <p:cNvSpPr>
            <a:spLocks noGrp="1"/>
          </p:cNvSpPr>
          <p:nvPr>
            <p:ph/>
          </p:nvPr>
        </p:nvSpPr>
        <p:spPr>
          <a:xfrm>
            <a:off x="503280" y="2057040"/>
            <a:ext cx="9067680" cy="49863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DB6F8-8BCB-4931-9116-3837A8F6B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10" name="PlaceHolder 2"/>
          <p:cNvSpPr>
            <a:spLocks noGrp="1"/>
          </p:cNvSpPr>
          <p:nvPr>
            <p:ph/>
          </p:nvPr>
        </p:nvSpPr>
        <p:spPr>
          <a:xfrm>
            <a:off x="503280" y="2057040"/>
            <a:ext cx="4424760" cy="49863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5149800" y="2057040"/>
            <a:ext cx="4424760" cy="49863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7CC20-AAAD-467B-B54D-A486F8DA6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03FFA-F107-41A3-A8AD-12826A69E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320"/>
            <a:ext cx="9067680" cy="5837040"/>
          </a:xfrm>
          <a:prstGeom prst="rect">
            <a:avLst/>
          </a:prstGeom>
          <a:noFill/>
          <a:ln w="0">
            <a:noFill/>
          </a:ln>
        </p:spPr>
        <p:txBody>
          <a:bodyPr lIns="0" rIns="0" tIns="0" bIns="0" anchor="ctr">
            <a:noAutofit/>
          </a:bodyPr>
          <a:p>
            <a:pPr algn="ctr">
              <a:lnSpc>
                <a:spcPct val="89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6126E-0416-4556-9382-52AEC22CB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15" name="PlaceHolder 2"/>
          <p:cNvSpPr>
            <a:spLocks noGrp="1"/>
          </p:cNvSpPr>
          <p:nvPr>
            <p:ph/>
          </p:nvPr>
        </p:nvSpPr>
        <p:spPr>
          <a:xfrm>
            <a:off x="503280" y="20570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5149800" y="2057040"/>
            <a:ext cx="4424760" cy="49863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503280" y="46616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95B74-791E-4661-A8C6-D2A55E600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19" name="PlaceHolder 2"/>
          <p:cNvSpPr>
            <a:spLocks noGrp="1"/>
          </p:cNvSpPr>
          <p:nvPr>
            <p:ph/>
          </p:nvPr>
        </p:nvSpPr>
        <p:spPr>
          <a:xfrm>
            <a:off x="503280" y="2057040"/>
            <a:ext cx="4424760" cy="49863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149800" y="20570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5149800" y="46616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53BE6-FE35-4FBA-A85A-97C26A649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23" name="PlaceHolder 2"/>
          <p:cNvSpPr>
            <a:spLocks noGrp="1"/>
          </p:cNvSpPr>
          <p:nvPr>
            <p:ph/>
          </p:nvPr>
        </p:nvSpPr>
        <p:spPr>
          <a:xfrm>
            <a:off x="503280" y="20570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149800" y="20570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503280" y="4661640"/>
            <a:ext cx="906768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11E84-BF7C-47E0-ABDA-9FC56652BA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400" spc="-1" strike="noStrike">
                <a:solidFill>
                  <a:srgbClr val="ffffff"/>
                </a:solidFill>
                <a:latin typeface="Times New Roman"/>
              </a:rPr>
              <a:t>Click to edit the title text format</a:t>
            </a:r>
            <a:endParaRPr b="1" i="1" lang="en-US" sz="4400" spc="-1" strike="noStrike">
              <a:solidFill>
                <a:srgbClr val="ffffff"/>
              </a:solidFill>
              <a:latin typeface="Times New Roman"/>
            </a:endParaRPr>
          </a:p>
        </p:txBody>
      </p:sp>
      <p:sp>
        <p:nvSpPr>
          <p:cNvPr id="1" name="PlaceHolder 2"/>
          <p:cNvSpPr>
            <a:spLocks noGrp="1"/>
          </p:cNvSpPr>
          <p:nvPr>
            <p:ph type="body"/>
          </p:nvPr>
        </p:nvSpPr>
        <p:spPr>
          <a:xfrm>
            <a:off x="503280" y="2057040"/>
            <a:ext cx="9067680" cy="4986360"/>
          </a:xfrm>
          <a:prstGeom prst="rect">
            <a:avLst/>
          </a:prstGeom>
          <a:noFill/>
          <a:ln w="0">
            <a:noFill/>
          </a:ln>
        </p:spPr>
        <p:txBody>
          <a:bodyPr lIns="0" rIns="0" tIns="24120" bIns="0" anchor="t">
            <a:normAutofit/>
          </a:bodyPr>
          <a:p>
            <a:pPr marL="341280" indent="0">
              <a:lnSpc>
                <a:spcPct val="89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1280" indent="-3412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1280" indent="-3412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1280" indent="-3412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1280" indent="-3412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1280" indent="-3412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1280" indent="-3412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502920" y="6994440"/>
            <a:ext cx="2344680" cy="5176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8080" y="6994440"/>
            <a:ext cx="3192480" cy="517680"/>
          </a:xfrm>
          <a:prstGeom prst="rect">
            <a:avLst/>
          </a:prstGeom>
          <a:noFill/>
          <a:ln w="0">
            <a:noFill/>
          </a:ln>
        </p:spPr>
        <p:txBody>
          <a:bodyPr lIns="0" rIns="0" tIns="0" bIns="0" anchor="t">
            <a:noAutofit/>
          </a:bodyPr>
          <a:lstStyle>
            <a:lvl1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defRPr b="0" lang="en-GB" sz="1400" spc="-1" strike="noStrike">
                <a:solidFill>
                  <a:srgbClr val="ffffff"/>
                </a:solidFill>
                <a:latin typeface="Times New Roman"/>
                <a:ea typeface="MS PGothic"/>
              </a:defRPr>
            </a:lvl1pPr>
          </a:lstStyle>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
        <p:nvSpPr>
          <p:cNvPr id="4" name="PlaceHolder 5"/>
          <p:cNvSpPr>
            <a:spLocks noGrp="1"/>
          </p:cNvSpPr>
          <p:nvPr>
            <p:ph type="sldNum" idx="3"/>
          </p:nvPr>
        </p:nvSpPr>
        <p:spPr>
          <a:xfrm>
            <a:off x="7227720" y="6994440"/>
            <a:ext cx="2345040" cy="517680"/>
          </a:xfrm>
          <a:prstGeom prst="rect">
            <a:avLst/>
          </a:prstGeom>
          <a:noFill/>
          <a:ln w="0">
            <a:noFill/>
          </a:ln>
        </p:spPr>
        <p:txBody>
          <a:bodyPr lIns="0" rIns="0" tIns="0" bIns="0" anchor="t">
            <a:noAutofit/>
          </a:bodyPr>
          <a:lstStyle>
            <a:lvl1pPr indent="0" algn="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defRPr b="0" lang="ja-JP" sz="1400" spc="-1" strike="noStrike">
                <a:solidFill>
                  <a:srgbClr val="ffffff"/>
                </a:solidFill>
                <a:latin typeface="Times New Roman"/>
                <a:ea typeface="MS PGothic"/>
              </a:defRPr>
            </a:lvl1pPr>
          </a:lstStyle>
          <a:p>
            <a:pPr indent="0" algn="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D215C6F8-827C-4540-983D-4EB4974A1C6A}" type="slidenum">
              <a:rPr b="0" lang="ja-JP" sz="1400" spc="-1" strike="noStrike">
                <a:solidFill>
                  <a:srgbClr val="ffffff"/>
                </a:solidFill>
                <a:latin typeface="Times New Roman"/>
                <a:ea typeface="MS PGothic"/>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27360" bIns="0" anchor="ctr">
            <a:noAutofit/>
          </a:bodyPr>
          <a:p>
            <a:pPr indent="0">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3600" spc="-1" strike="noStrike">
                <a:solidFill>
                  <a:srgbClr val="ffffff"/>
                </a:solidFill>
                <a:latin typeface="Times New Roman"/>
                <a:ea typeface="MS PGothic"/>
              </a:rPr>
              <a:t>The James Webb Space Telescope</a:t>
            </a:r>
            <a:endParaRPr b="1" i="1" lang="en-US" sz="3600" spc="-1" strike="noStrike">
              <a:solidFill>
                <a:srgbClr val="ffffff"/>
              </a:solidFill>
              <a:latin typeface="Times New Roman"/>
            </a:endParaRPr>
          </a:p>
        </p:txBody>
      </p:sp>
      <p:pic>
        <p:nvPicPr>
          <p:cNvPr id="50" name="Picture 2" descr=""/>
          <p:cNvPicPr/>
          <p:nvPr/>
        </p:nvPicPr>
        <p:blipFill>
          <a:blip r:embed="rId1"/>
          <a:stretch/>
        </p:blipFill>
        <p:spPr>
          <a:xfrm>
            <a:off x="457200" y="2514600"/>
            <a:ext cx="3584520" cy="2743200"/>
          </a:xfrm>
          <a:prstGeom prst="rect">
            <a:avLst/>
          </a:prstGeom>
          <a:ln w="0">
            <a:noFill/>
          </a:ln>
        </p:spPr>
      </p:pic>
      <p:pic>
        <p:nvPicPr>
          <p:cNvPr id="51" name="Picture 3" descr=""/>
          <p:cNvPicPr/>
          <p:nvPr/>
        </p:nvPicPr>
        <p:blipFill>
          <a:blip r:embed="rId2"/>
          <a:stretch/>
        </p:blipFill>
        <p:spPr>
          <a:xfrm>
            <a:off x="4572000" y="1828800"/>
            <a:ext cx="5451480" cy="2971800"/>
          </a:xfrm>
          <a:prstGeom prst="rect">
            <a:avLst/>
          </a:prstGeom>
          <a:ln w="0">
            <a:noFill/>
          </a:ln>
        </p:spPr>
      </p:pic>
      <p:pic>
        <p:nvPicPr>
          <p:cNvPr id="52" name="Picture 4" descr=""/>
          <p:cNvPicPr/>
          <p:nvPr/>
        </p:nvPicPr>
        <p:blipFill>
          <a:blip r:embed="rId3"/>
          <a:stretch/>
        </p:blipFill>
        <p:spPr>
          <a:xfrm>
            <a:off x="3957480" y="4343400"/>
            <a:ext cx="3129120" cy="2381400"/>
          </a:xfrm>
          <a:prstGeom prst="rect">
            <a:avLst/>
          </a:prstGeom>
          <a:ln w="0">
            <a:noFill/>
          </a:ln>
        </p:spPr>
      </p:pic>
      <p:sp>
        <p:nvSpPr>
          <p:cNvPr id="53" name="Нижний колонтитул 5"/>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4400" spc="-1" strike="noStrike">
                <a:solidFill>
                  <a:srgbClr val="ffffff"/>
                </a:solidFill>
                <a:latin typeface="Times New Roman"/>
                <a:ea typeface="MS PGothic"/>
              </a:rPr>
              <a:t>How far will Webb look?</a:t>
            </a:r>
            <a:endParaRPr b="1" i="1" lang="en-US" sz="4400" spc="-1" strike="noStrike">
              <a:solidFill>
                <a:srgbClr val="ffffff"/>
              </a:solidFill>
              <a:latin typeface="Times New Roman"/>
            </a:endParaRPr>
          </a:p>
        </p:txBody>
      </p:sp>
      <p:sp>
        <p:nvSpPr>
          <p:cNvPr id="79" name="PlaceHolder 2"/>
          <p:cNvSpPr>
            <a:spLocks noGrp="1"/>
          </p:cNvSpPr>
          <p:nvPr>
            <p:ph/>
          </p:nvPr>
        </p:nvSpPr>
        <p:spPr>
          <a:xfrm>
            <a:off x="502920" y="2057400"/>
            <a:ext cx="9070920" cy="4989600"/>
          </a:xfrm>
          <a:prstGeom prst="rect">
            <a:avLst/>
          </a:prstGeom>
          <a:noFill/>
          <a:ln w="0">
            <a:noFill/>
          </a:ln>
        </p:spPr>
        <p:txBody>
          <a:bodyPr lIns="0" rIns="0" tIns="1224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000" spc="-1" strike="noStrike">
                <a:solidFill>
                  <a:srgbClr val="ffffff"/>
                </a:solidFill>
                <a:latin typeface="Times New Roman"/>
                <a:ea typeface="MS PGothic"/>
              </a:rPr>
              <a:t>One of the main goals of Webb is to detect some of the very first star formation in the Universe. This is thought to happen somewhere between redshift 15 and 30.  At those redshifts, the Universe was only one or two percent of its current age. The Universe is now 13.7 billion years old, and these redshifts correspond to 100 to 250 million years after the Big Bang. The light from the first galaxies has traveled for about 13.5 billion years, over a distance of 13.5 billion light-years. </a:t>
            </a:r>
            <a:endParaRPr b="0" lang="en-US" sz="20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000" spc="-1" strike="noStrike">
              <a:solidFill>
                <a:srgbClr val="ffffff"/>
              </a:solidFill>
              <a:latin typeface="Times New Roman"/>
            </a:endParaRPr>
          </a:p>
        </p:txBody>
      </p:sp>
      <p:sp>
        <p:nvSpPr>
          <p:cNvPr id="80"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4400" spc="-1" strike="noStrike">
                <a:solidFill>
                  <a:srgbClr val="ffffff"/>
                </a:solidFill>
                <a:latin typeface="Times New Roman"/>
                <a:ea typeface="MS PGothic"/>
              </a:rPr>
              <a:t>Introduction</a:t>
            </a:r>
            <a:endParaRPr b="1" i="1" lang="en-US" sz="4400" spc="-1" strike="noStrike">
              <a:solidFill>
                <a:srgbClr val="ffffff"/>
              </a:solidFill>
              <a:latin typeface="Times New Roman"/>
            </a:endParaRPr>
          </a:p>
        </p:txBody>
      </p:sp>
      <p:sp>
        <p:nvSpPr>
          <p:cNvPr id="55" name="PlaceHolder 2"/>
          <p:cNvSpPr>
            <a:spLocks noGrp="1"/>
          </p:cNvSpPr>
          <p:nvPr>
            <p:ph/>
          </p:nvPr>
        </p:nvSpPr>
        <p:spPr>
          <a:xfrm>
            <a:off x="502920" y="2057400"/>
            <a:ext cx="9070920" cy="4989600"/>
          </a:xfrm>
          <a:prstGeom prst="rect">
            <a:avLst/>
          </a:prstGeom>
          <a:noFill/>
          <a:ln w="0">
            <a:noFill/>
          </a:ln>
        </p:spPr>
        <p:txBody>
          <a:bodyPr lIns="0" rIns="0" tIns="2412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3200" spc="-1" strike="noStrike">
                <a:solidFill>
                  <a:srgbClr val="ffffff"/>
                </a:solidFill>
                <a:latin typeface="Times New Roman"/>
                <a:ea typeface="MS PGothic"/>
              </a:rPr>
              <a:t>The James Webb Space Telescope</a:t>
            </a:r>
            <a:endParaRPr b="0" lang="en-US" sz="3200" spc="-1" strike="noStrike">
              <a:solidFill>
                <a:srgbClr val="ffffff"/>
              </a:solidFill>
              <a:latin typeface="Times New Roman"/>
            </a:endParaRPr>
          </a:p>
          <a:p>
            <a:pPr lvl="1" marL="1725480" indent="-573120">
              <a:lnSpc>
                <a:spcPct val="94000"/>
              </a:lnSpc>
              <a:spcAft>
                <a:spcPts val="1137"/>
              </a:spcAft>
              <a:buClr>
                <a:srgbClr val="ff0000"/>
              </a:buClr>
              <a:buSzPct val="75000"/>
              <a:buFont typeface="Symbol"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200" spc="-1" strike="noStrike">
                <a:solidFill>
                  <a:srgbClr val="ffffff"/>
                </a:solidFill>
                <a:latin typeface="Times New Roman"/>
                <a:ea typeface="MS PGothic"/>
              </a:rPr>
              <a:t>The James Webb Space Telescope, also called Webb or JWST, is a large, space-based observatory, optimized for infrared wavelengths, which will complement and extend the discoveries of the Hubble Space Telescope. It will have longer wavelength coverage and greatly improved sensitivity. The longer wavelengths enable Webb to look further back in time to find the first galaxies that formed in the early Universe, and to peer inside dust clouds where stars and planetary systems are forming today. It is scheduled for launch in 2013.</a:t>
            </a:r>
            <a:endParaRPr b="0" lang="en-US" sz="22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200" spc="-1" strike="noStrike">
              <a:solidFill>
                <a:srgbClr val="ffffff"/>
              </a:solidFill>
              <a:latin typeface="Times New Roman"/>
            </a:endParaRPr>
          </a:p>
        </p:txBody>
      </p:sp>
      <p:sp>
        <p:nvSpPr>
          <p:cNvPr id="56"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4400" spc="-1" strike="noStrike">
                <a:solidFill>
                  <a:srgbClr val="ffffff"/>
                </a:solidFill>
                <a:latin typeface="Times New Roman"/>
                <a:ea typeface="MS PGothic"/>
              </a:rPr>
              <a:t>James E .Webb </a:t>
            </a:r>
            <a:endParaRPr b="1" i="1" lang="en-US" sz="4400" spc="-1" strike="noStrike">
              <a:solidFill>
                <a:srgbClr val="ffffff"/>
              </a:solidFill>
              <a:latin typeface="Times New Roman"/>
            </a:endParaRPr>
          </a:p>
        </p:txBody>
      </p:sp>
      <p:sp>
        <p:nvSpPr>
          <p:cNvPr id="58" name="PlaceHolder 2"/>
          <p:cNvSpPr>
            <a:spLocks noGrp="1"/>
          </p:cNvSpPr>
          <p:nvPr>
            <p:ph/>
          </p:nvPr>
        </p:nvSpPr>
        <p:spPr>
          <a:xfrm>
            <a:off x="502920" y="2057400"/>
            <a:ext cx="9070920" cy="4989600"/>
          </a:xfrm>
          <a:prstGeom prst="rect">
            <a:avLst/>
          </a:prstGeom>
          <a:noFill/>
          <a:ln w="0">
            <a:noFill/>
          </a:ln>
        </p:spPr>
        <p:txBody>
          <a:bodyPr lIns="0" rIns="0" tIns="1656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200" spc="-1" strike="noStrike">
                <a:solidFill>
                  <a:srgbClr val="ffffff"/>
                </a:solidFill>
                <a:latin typeface="Times New Roman"/>
                <a:ea typeface="MS PGothic"/>
              </a:rPr>
              <a:t>This space-based observatory is named after James E. Webb (1906- 1992), NASA's second administrator. Webb is best known for leading Apollo, a series of lunar exploration programs that landed the first humans on the Moon. However, he also initiated a vigorous space science program that was responsible for more than 75 launches during his tenure, including America's first interplanetary explorers. </a:t>
            </a:r>
            <a:endParaRPr b="0" lang="en-US" sz="22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200" spc="-1" strike="noStrike">
              <a:solidFill>
                <a:srgbClr val="ffffff"/>
              </a:solidFill>
              <a:latin typeface="Times New Roman"/>
            </a:endParaRPr>
          </a:p>
        </p:txBody>
      </p:sp>
      <p:sp>
        <p:nvSpPr>
          <p:cNvPr id="59"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4400" spc="-1" strike="noStrike">
                <a:solidFill>
                  <a:srgbClr val="ffffff"/>
                </a:solidFill>
                <a:latin typeface="Times New Roman"/>
                <a:ea typeface="MS PGothic"/>
              </a:rPr>
              <a:t>How will Webb be better? </a:t>
            </a:r>
            <a:endParaRPr b="1" i="1" lang="en-US" sz="4400" spc="-1" strike="noStrike">
              <a:solidFill>
                <a:srgbClr val="ffffff"/>
              </a:solidFill>
              <a:latin typeface="Times New Roman"/>
            </a:endParaRPr>
          </a:p>
        </p:txBody>
      </p:sp>
      <p:sp>
        <p:nvSpPr>
          <p:cNvPr id="61" name="PlaceHolder 2"/>
          <p:cNvSpPr>
            <a:spLocks noGrp="1"/>
          </p:cNvSpPr>
          <p:nvPr>
            <p:ph/>
          </p:nvPr>
        </p:nvSpPr>
        <p:spPr>
          <a:xfrm>
            <a:off x="502920" y="2057400"/>
            <a:ext cx="9070920" cy="4989600"/>
          </a:xfrm>
          <a:prstGeom prst="rect">
            <a:avLst/>
          </a:prstGeom>
          <a:noFill/>
          <a:ln w="0">
            <a:noFill/>
          </a:ln>
        </p:spPr>
        <p:txBody>
          <a:bodyPr lIns="0" rIns="0" tIns="1656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200" spc="-1" strike="noStrike">
                <a:solidFill>
                  <a:srgbClr val="ffffff"/>
                </a:solidFill>
                <a:latin typeface="Times New Roman"/>
                <a:ea typeface="MS PGothic"/>
              </a:rPr>
              <a:t>Webb is designed to look deeper into space to see the earliest stars and galaxies that formed in the Universe and to look deep into nearby dust clouds to study the formation of stars and planets. In order to do this, Webb will have a much larger primary mirror than Hubble (2.5 times larger in diameter, or about 6 times larger in area), giving it more light-gathering power. It also will have infrared instruments with longer wavelength coverage and greatly improved sensitivity than Hubble. Finally, Webb will operate much farther from Earth, maintaining its extremely cold operating temperature, stable pointing and higher observing efficiency than with the Earth-orbiting Hubble. </a:t>
            </a:r>
            <a:endParaRPr b="0" lang="en-US" sz="22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200" spc="-1" strike="noStrike">
              <a:solidFill>
                <a:srgbClr val="ffffff"/>
              </a:solidFill>
              <a:latin typeface="Times New Roman"/>
            </a:endParaRPr>
          </a:p>
        </p:txBody>
      </p:sp>
      <p:sp>
        <p:nvSpPr>
          <p:cNvPr id="62"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4400"/>
            </a:br>
            <a:r>
              <a:rPr b="1" i="1" lang="en-GB" sz="3800" spc="-1" strike="noStrike">
                <a:solidFill>
                  <a:srgbClr val="ffffff"/>
                </a:solidFill>
                <a:latin typeface="Times New Roman"/>
                <a:ea typeface="MS PGothic"/>
              </a:rPr>
              <a:t>How long will the mission last?</a:t>
            </a:r>
            <a:endParaRPr b="1" i="1" lang="en-US" sz="3800" spc="-1" strike="noStrike">
              <a:solidFill>
                <a:srgbClr val="ffffff"/>
              </a:solidFill>
              <a:latin typeface="Times New Roman"/>
            </a:endParaRPr>
          </a:p>
        </p:txBody>
      </p:sp>
      <p:sp>
        <p:nvSpPr>
          <p:cNvPr id="64" name="PlaceHolder 2"/>
          <p:cNvSpPr>
            <a:spLocks noGrp="1"/>
          </p:cNvSpPr>
          <p:nvPr>
            <p:ph/>
          </p:nvPr>
        </p:nvSpPr>
        <p:spPr>
          <a:xfrm>
            <a:off x="502920" y="2057400"/>
            <a:ext cx="9070920" cy="4989600"/>
          </a:xfrm>
          <a:prstGeom prst="rect">
            <a:avLst/>
          </a:prstGeom>
          <a:noFill/>
          <a:ln w="0">
            <a:noFill/>
          </a:ln>
        </p:spPr>
        <p:txBody>
          <a:bodyPr lIns="0" rIns="0" tIns="1656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200" spc="-1" strike="noStrike">
                <a:solidFill>
                  <a:srgbClr val="ffffff"/>
                </a:solidFill>
                <a:latin typeface="Times New Roman"/>
                <a:ea typeface="MS PGothic"/>
              </a:rPr>
              <a:t>Webb will have a mission lifetime of not less than 5-1/2 years after launch, with the goal of having a lifetime greater than 10 years. The lifetime is limited by the amount of fuel used for maintaining the orbit, and by the testing and redundancy that ensures that everything on the spacecraft will work. Webb will carry fuel for a 10-year lifetime; the project will do mission assurance testing to guarantee 5 years of scientific operations starting at the end of the commissioning period 6 months after launch. </a:t>
            </a:r>
            <a:endParaRPr b="0" lang="en-US" sz="22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200" spc="-1" strike="noStrike">
              <a:solidFill>
                <a:srgbClr val="ffffff"/>
              </a:solidFill>
              <a:latin typeface="Times New Roman"/>
            </a:endParaRPr>
          </a:p>
        </p:txBody>
      </p:sp>
      <p:sp>
        <p:nvSpPr>
          <p:cNvPr id="65"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4400" spc="-1" strike="noStrike">
                <a:solidFill>
                  <a:srgbClr val="ffffff"/>
                </a:solidFill>
                <a:latin typeface="Times New Roman"/>
                <a:ea typeface="MS PGothic"/>
              </a:rPr>
              <a:t>Servicing Webb</a:t>
            </a:r>
            <a:endParaRPr b="1" i="1" lang="en-US" sz="4400" spc="-1" strike="noStrike">
              <a:solidFill>
                <a:srgbClr val="ffffff"/>
              </a:solidFill>
              <a:latin typeface="Times New Roman"/>
            </a:endParaRPr>
          </a:p>
        </p:txBody>
      </p:sp>
      <p:sp>
        <p:nvSpPr>
          <p:cNvPr id="67" name="PlaceHolder 2"/>
          <p:cNvSpPr>
            <a:spLocks noGrp="1"/>
          </p:cNvSpPr>
          <p:nvPr>
            <p:ph/>
          </p:nvPr>
        </p:nvSpPr>
        <p:spPr>
          <a:xfrm>
            <a:off x="502920" y="2057400"/>
            <a:ext cx="9070920" cy="5232240"/>
          </a:xfrm>
          <a:prstGeom prst="rect">
            <a:avLst/>
          </a:prstGeom>
          <a:noFill/>
          <a:ln w="0">
            <a:noFill/>
          </a:ln>
        </p:spPr>
        <p:txBody>
          <a:bodyPr lIns="0" rIns="0" tIns="1656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200" spc="-1" strike="noStrike">
                <a:solidFill>
                  <a:srgbClr val="ffffff"/>
                </a:solidFill>
                <a:latin typeface="Times New Roman"/>
                <a:ea typeface="MS PGothic"/>
              </a:rPr>
              <a:t>Hubble is in low-Earth orbit, located approximately 600 kilometers away from the Earth, and is therefore readily accessible for servicing using the Space Shuttle. Webb will be operated at the second Sun-Earth Lagrange point, located approximately 1.5 million kilometers away from the Earth, and will therefore be beyond the reach of any manned vehicle currently being planned for the next decade. In the early days of the Webb project, studies were conducted to evaluate the benefits, practicality and cost of servicing Webb either by human space flight, by robotic missions, or by some combination such as retrieval to low-Earth orbit. Those studies concluded that the potential benefits of servicing do not offset the increases in mission complexity, mass and cost that would be required to make Webb serviceable, or to conduct the servicing mission itself.  </a:t>
            </a:r>
            <a:endParaRPr b="0" lang="en-US" sz="22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200" spc="-1" strike="noStrike">
              <a:solidFill>
                <a:srgbClr val="ffffff"/>
              </a:solidFill>
              <a:latin typeface="Times New Roman"/>
            </a:endParaRPr>
          </a:p>
        </p:txBody>
      </p:sp>
      <p:sp>
        <p:nvSpPr>
          <p:cNvPr id="68"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4400" spc="-1" strike="noStrike">
                <a:solidFill>
                  <a:srgbClr val="ffffff"/>
                </a:solidFill>
                <a:latin typeface="Times New Roman"/>
                <a:ea typeface="MS PGothic"/>
              </a:rPr>
              <a:t>Size of the Webb</a:t>
            </a:r>
            <a:endParaRPr b="1" i="1" lang="en-US" sz="4400" spc="-1" strike="noStrike">
              <a:solidFill>
                <a:srgbClr val="ffffff"/>
              </a:solidFill>
              <a:latin typeface="Times New Roman"/>
            </a:endParaRPr>
          </a:p>
        </p:txBody>
      </p:sp>
      <p:sp>
        <p:nvSpPr>
          <p:cNvPr id="70" name="PlaceHolder 2"/>
          <p:cNvSpPr>
            <a:spLocks noGrp="1"/>
          </p:cNvSpPr>
          <p:nvPr>
            <p:ph/>
          </p:nvPr>
        </p:nvSpPr>
        <p:spPr>
          <a:xfrm>
            <a:off x="502920" y="2057400"/>
            <a:ext cx="9070920" cy="4989600"/>
          </a:xfrm>
          <a:prstGeom prst="rect">
            <a:avLst/>
          </a:prstGeom>
          <a:noFill/>
          <a:ln w="0">
            <a:noFill/>
          </a:ln>
        </p:spPr>
        <p:txBody>
          <a:bodyPr lIns="0" rIns="0" tIns="1656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200" spc="-1" strike="noStrike">
                <a:solidFill>
                  <a:srgbClr val="ffffff"/>
                </a:solidFill>
                <a:latin typeface="Times New Roman"/>
                <a:ea typeface="MS PGothic"/>
              </a:rPr>
              <a:t>The diameter of the primary mirror, will be about 6.5 meters (21 feet) for Webb. This is about 2.7 times larger than the diameter of Hubble, or about 6 times larger in area. The Webb will have a mass of approximately 6,500 kg, with a weight of 14,300 lbs on Earth (in orbit, everything is weightless), a little more than half the mass of Hubble. The largest structure of Webb will be its sunshade, which must be able to shield the deployed primary mirror and the tower that holds the secondary mirror. The sunshade is approximately the size of a tennis court.   </a:t>
            </a:r>
            <a:endParaRPr b="0" lang="en-US" sz="22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200" spc="-1" strike="noStrike">
              <a:solidFill>
                <a:srgbClr val="ffffff"/>
              </a:solidFill>
              <a:latin typeface="Times New Roman"/>
            </a:endParaRPr>
          </a:p>
        </p:txBody>
      </p:sp>
      <p:sp>
        <p:nvSpPr>
          <p:cNvPr id="71"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4400" spc="-1" strike="noStrike">
                <a:solidFill>
                  <a:srgbClr val="ffffff"/>
                </a:solidFill>
                <a:latin typeface="Times New Roman"/>
                <a:ea typeface="MS PGothic"/>
              </a:rPr>
              <a:t>Communication</a:t>
            </a:r>
            <a:endParaRPr b="1" i="1" lang="en-US" sz="4400" spc="-1" strike="noStrike">
              <a:solidFill>
                <a:srgbClr val="ffffff"/>
              </a:solidFill>
              <a:latin typeface="Times New Roman"/>
            </a:endParaRPr>
          </a:p>
        </p:txBody>
      </p:sp>
      <p:sp>
        <p:nvSpPr>
          <p:cNvPr id="73" name="PlaceHolder 2"/>
          <p:cNvSpPr>
            <a:spLocks noGrp="1"/>
          </p:cNvSpPr>
          <p:nvPr>
            <p:ph/>
          </p:nvPr>
        </p:nvSpPr>
        <p:spPr>
          <a:xfrm>
            <a:off x="502920" y="2057400"/>
            <a:ext cx="9070920" cy="4989600"/>
          </a:xfrm>
          <a:prstGeom prst="rect">
            <a:avLst/>
          </a:prstGeom>
          <a:noFill/>
          <a:ln w="0">
            <a:noFill/>
          </a:ln>
        </p:spPr>
        <p:txBody>
          <a:bodyPr lIns="0" rIns="0" tIns="1656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200" spc="-1" strike="noStrike">
                <a:solidFill>
                  <a:srgbClr val="ffffff"/>
                </a:solidFill>
                <a:latin typeface="Times New Roman"/>
                <a:ea typeface="MS PGothic"/>
              </a:rPr>
              <a:t>The Webb will send science and engineering data to Earth using a high frequency radio transmitter. Large radio antennas that are part of the NASA Deep Space Network will receive the signals and forward them to the Webb Science and Operation Center at the Space Telescope Science Institute in Baltimore, Maryland, USA.    </a:t>
            </a:r>
            <a:endParaRPr b="0" lang="en-US" sz="22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200" spc="-1" strike="noStrike">
              <a:solidFill>
                <a:srgbClr val="ffffff"/>
              </a:solidFill>
              <a:latin typeface="Times New Roman"/>
            </a:endParaRPr>
          </a:p>
        </p:txBody>
      </p:sp>
      <p:sp>
        <p:nvSpPr>
          <p:cNvPr id="74"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4400" spc="-1" strike="noStrike">
                <a:solidFill>
                  <a:srgbClr val="ffffff"/>
                </a:solidFill>
                <a:latin typeface="Times New Roman"/>
                <a:ea typeface="MS PGothic"/>
              </a:rPr>
              <a:t>Orbit</a:t>
            </a:r>
            <a:endParaRPr b="1" i="1" lang="en-US" sz="4400" spc="-1" strike="noStrike">
              <a:solidFill>
                <a:srgbClr val="ffffff"/>
              </a:solidFill>
              <a:latin typeface="Times New Roman"/>
            </a:endParaRPr>
          </a:p>
        </p:txBody>
      </p:sp>
      <p:sp>
        <p:nvSpPr>
          <p:cNvPr id="76" name="PlaceHolder 2"/>
          <p:cNvSpPr>
            <a:spLocks noGrp="1"/>
          </p:cNvSpPr>
          <p:nvPr>
            <p:ph/>
          </p:nvPr>
        </p:nvSpPr>
        <p:spPr>
          <a:xfrm>
            <a:off x="502920" y="2057400"/>
            <a:ext cx="9070920" cy="5081760"/>
          </a:xfrm>
          <a:prstGeom prst="rect">
            <a:avLst/>
          </a:prstGeom>
          <a:noFill/>
          <a:ln w="0">
            <a:noFill/>
          </a:ln>
        </p:spPr>
        <p:txBody>
          <a:bodyPr lIns="0" rIns="0" tIns="1224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000" spc="-1" strike="noStrike">
                <a:solidFill>
                  <a:srgbClr val="ffffff"/>
                </a:solidFill>
                <a:latin typeface="Times New Roman"/>
                <a:ea typeface="MS PGothic"/>
              </a:rPr>
              <a:t>Webb is going to the second Lagrange (L2) point, which is 1 million miles (1.5 million km) away from Earth, and it just takes a while to travel such a distance. During the trip to L2, Webb will be fully deployed, will cool down to its operating temperature, and its systems will begin to be checked out and adjusted. These commissioning procedures will continue until 6 months after launch, at which point routine scientific operations will begin. </a:t>
            </a:r>
            <a:endParaRPr b="0" lang="en-US" sz="2000" spc="-1" strike="noStrike">
              <a:solidFill>
                <a:srgbClr val="ffffff"/>
              </a:solidFill>
              <a:latin typeface="Times New Roman"/>
            </a:endParaRPr>
          </a:p>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000" spc="-1" strike="noStrike">
                <a:solidFill>
                  <a:srgbClr val="ffffff"/>
                </a:solidFill>
                <a:latin typeface="Times New Roman"/>
                <a:ea typeface="MS PGothic"/>
              </a:rPr>
              <a:t>Webb will observe primarily the infrared light from faint and very distant objects. To avoid swamping the very faint astronomical signals with radiation from the telescope, the telescope and its instruments must be very cold. </a:t>
            </a:r>
            <a:endParaRPr b="0" lang="en-US" sz="2000" spc="-1" strike="noStrike">
              <a:solidFill>
                <a:srgbClr val="ffffff"/>
              </a:solidFill>
              <a:latin typeface="Times New Roman"/>
            </a:endParaRPr>
          </a:p>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000" spc="-1" strike="noStrike">
                <a:solidFill>
                  <a:srgbClr val="ffffff"/>
                </a:solidFill>
                <a:latin typeface="Times New Roman"/>
                <a:ea typeface="MS PGothic"/>
              </a:rPr>
              <a:t>Webb's operating temperature is less than 50 degrees above absolute zero: 50 Kelvin, (-225 Celcius, or -370 deg F). Therefore, Webb has a large shield that blocks the light from the Sun, Earth, and Moon, which otherwise would heat up the telescope, and interfere with the observations. To have this work, Webb will be in an orbit where all three of these objects are in about the same direction; the second Lagrange point (L2) of the Sun-Earth system has this property. </a:t>
            </a:r>
            <a:endParaRPr b="0" lang="en-US" sz="20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000" spc="-1" strike="noStrike">
              <a:solidFill>
                <a:srgbClr val="ffffff"/>
              </a:solidFill>
              <a:latin typeface="Times New Roman"/>
            </a:endParaRPr>
          </a:p>
        </p:txBody>
      </p:sp>
      <p:sp>
        <p:nvSpPr>
          <p:cNvPr id="77"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EGION</dc:creator>
  <dc:description/>
  <dc:language>en-US</dc:language>
  <cp:lastModifiedBy>LEGION</cp:lastModifiedBy>
  <dcterms:modified xsi:type="dcterms:W3CDTF">2018-03-22T10:41:37Z</dcterms:modified>
  <cp:revision>4</cp:revision>
  <dc:subject/>
  <dc:title>The James Webb Space Telescope</dc:title>
</cp:coreProperties>
</file>